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669-AE58-444F-9601-C37D8F14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143000"/>
            <a:ext cx="586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3571200"/>
            <a:ext cx="586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A19-8F94-4AF9-ACAD-844746FF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143000"/>
            <a:ext cx="2863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1143000"/>
            <a:ext cx="2863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3571200"/>
            <a:ext cx="2863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6920" y="3571200"/>
            <a:ext cx="2863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63E-A283-413D-A3F2-9BBBD3F5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143000"/>
            <a:ext cx="188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3800" y="1143000"/>
            <a:ext cx="188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7760" y="1143000"/>
            <a:ext cx="188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3571200"/>
            <a:ext cx="188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3800" y="3571200"/>
            <a:ext cx="188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7760" y="3571200"/>
            <a:ext cx="188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D529-63CE-4C1B-BE3B-DBA96551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00200" y="1143000"/>
            <a:ext cx="5867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00200" y="1143000"/>
            <a:ext cx="586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00200" y="1143000"/>
            <a:ext cx="286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06920" y="1143000"/>
            <a:ext cx="286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437920" y="0"/>
            <a:ext cx="6705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00200" y="1143000"/>
            <a:ext cx="2863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6920" y="1143000"/>
            <a:ext cx="286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600200" y="3571200"/>
            <a:ext cx="2863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143000"/>
            <a:ext cx="5867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344A-4011-4A5E-AC16-53B51257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00200" y="1143000"/>
            <a:ext cx="286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6920" y="1143000"/>
            <a:ext cx="2863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6920" y="3571200"/>
            <a:ext cx="2863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1143000"/>
            <a:ext cx="2863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6920" y="1143000"/>
            <a:ext cx="2863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3571200"/>
            <a:ext cx="586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1143000"/>
            <a:ext cx="586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00200" y="3571200"/>
            <a:ext cx="586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143000"/>
            <a:ext cx="2863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6920" y="1143000"/>
            <a:ext cx="2863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600200" y="3571200"/>
            <a:ext cx="2863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06920" y="3571200"/>
            <a:ext cx="2863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1143000"/>
            <a:ext cx="188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83800" y="1143000"/>
            <a:ext cx="188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67760" y="1143000"/>
            <a:ext cx="188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600200" y="3571200"/>
            <a:ext cx="188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83800" y="3571200"/>
            <a:ext cx="188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567760" y="3571200"/>
            <a:ext cx="1888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143000"/>
            <a:ext cx="586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F7CE-87BB-494F-A9DE-614464FB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143000"/>
            <a:ext cx="286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6920" y="1143000"/>
            <a:ext cx="286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FCD3-FF90-44A4-808D-4ECFAAE1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4701-778D-4B0F-B8AA-20C8F630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7920" y="0"/>
            <a:ext cx="6705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DBDB-9C2C-4E98-A7D1-F5F41CFF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143000"/>
            <a:ext cx="2863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6920" y="1143000"/>
            <a:ext cx="286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3571200"/>
            <a:ext cx="2863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E19-D3B1-4142-98C8-5C8D8998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143000"/>
            <a:ext cx="286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6920" y="1143000"/>
            <a:ext cx="2863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6920" y="3571200"/>
            <a:ext cx="2863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C280-A4E4-4C50-9607-3FC67509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143000"/>
            <a:ext cx="2863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6920" y="1143000"/>
            <a:ext cx="2863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3571200"/>
            <a:ext cx="5867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27F1-BD19-4ED4-9F95-E9C6BE29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143000"/>
            <a:ext cx="586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0153-BA70-42C4-B501-190A5DC06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30477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i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30477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886200" y="571500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8T18:48:34Z</dcterms:created>
  <dc:creator>Talking Point Graphics 502 456 9800</dc:creator>
  <dc:description/>
  <dc:language>en-US</dc:language>
  <cp:lastModifiedBy>craig</cp:lastModifiedBy>
  <dcterms:modified xsi:type="dcterms:W3CDTF">2003-05-27T08:00:50Z</dcterms:modified>
  <cp:revision>20</cp:revision>
  <dc:subject/>
  <dc:title>Training</dc:title>
</cp:coreProperties>
</file>