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Your Headline Here</a:t>
            </a: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Subtitle He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>Selma</dc:creator>
  <dc:description/>
  <dc:language>en-US</dc:language>
  <cp:lastModifiedBy>craig</cp:lastModifiedBy>
  <dcterms:modified xsi:type="dcterms:W3CDTF">2003-05-27T09:14:58Z</dcterms:modified>
  <cp:revision>3</cp:revision>
  <dc:subject/>
  <dc:title>Your Headline Here </dc:title>
</cp:coreProperties>
</file>